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drumroll.wav" ContentType="audio/x-wav"/>
  <Override PartName="/ppt/media/arrow.wav" ContentType="audio/x-wav"/>
  <Override PartName="/ppt/media/image3.gif" ContentType="image/gif"/>
  <Override PartName="/ppt/media/image7.png" ContentType="image/png"/>
  <Override PartName="/ppt/media/bomb.wav" ContentType="audio/x-wav"/>
  <Override PartName="/ppt/media/image4.jpeg" ContentType="image/jpeg"/>
  <Override PartName="/ppt/media/image5.png" ContentType="image/png"/>
  <Override PartName="/ppt/media/image6.jpeg" ContentType="image/jpeg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4D2-A8DD-434A-B23C-5C6B6ED5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87C-C31F-41C7-943D-5CC74BD4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170-0BC4-4E59-B169-ED794D72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82F-79A1-4F3C-8A67-63F66FC6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3E46-091A-48A3-AC89-8F3D6FE6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637-A9E0-4885-A4A5-0036AAC1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0EA6-8F52-475C-938C-731C0EA2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B389-4D05-4DD1-8E57-2343DDAC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4C5E-475C-4FFB-A0AA-9BCC508C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D4B3-362C-43B9-903C-52178713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D9A0-B1CF-4614-A554-C58A86C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BC7-12D4-423B-811A-2413CDFE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BDC2-0649-4ED7-85D2-D7580F69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2F9F-D28D-47DB-93FC-30DC7676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104E-3AE2-424F-B38A-EF6C49DE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7776-AEA8-4A6D-9749-ECC11DD7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3345-6498-4F22-B3A4-A54CD209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AA1A1-908C-41CD-AB55-93C18E33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41994-6C26-42EA-9535-D83EAB9C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8CE6-FDB2-4C79-8D10-B80A5E30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A05F-4799-4495-9B3F-421AE6A0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2F00-089C-4697-BC43-DDCCDEB3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7DD-1A6E-4206-AD3D-3F376D84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E6E1-AC95-44F0-B450-AC325229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E10F-E47C-4245-BDE2-72531A8E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C12D5-9F9B-429C-B4F8-77D560A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8A84-06E5-4E1D-8FE0-D963318A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478C-E4FB-4D45-97D5-8563CC4C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7A8E-EE15-4B7A-9490-671863A1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C30E-9487-423D-8A77-57AC10AD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722D-0F4A-4BA1-9F26-0129972E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42FB-49E3-4D86-B321-C19F4F78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D907-7C19-4AC5-840B-7C79CB80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89B-4F6B-4D85-990C-496F138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2D0A0-C40E-465B-B9C1-2B4785EA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FDB82-B335-445A-AFE7-C783F8E1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9700-C97C-478A-8CA7-5B02CB05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6870A-1C43-4CB3-92A4-57E3B46B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188C1-EE3B-42EF-9D01-8A3F43DA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9EDDC-5C07-4F5B-9149-4D3E0B1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6A3C5-6C80-4BB4-AC7F-1A75238D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9A0B3-F083-43C3-86E3-A15EFE7A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A7D7C-0D23-4896-9851-7198987B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B9FC4-0EDD-44E0-ADC7-8EBE70B4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D0A2-CEA3-4FC6-9783-7CBC1963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FBCB2-3A05-411D-9C0A-3809A420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46BE9-302C-4FBA-8113-B398E628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364D-7FFF-4C35-A7FE-9FDD1C1C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21BF-A6AD-450D-904F-DDFCF13A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C9C6F-7103-44EE-BBFF-CB67D3FC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4F2B4-BAEF-4970-8B05-AB75D076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49F6A-CD0E-407C-968A-F18858B8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97A0-85BD-443A-AB34-CAE4460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FBB1D-F15D-422B-AFD1-4C5F2B93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C930-33FA-4216-A830-46BE52C02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8BD-7739-4D3D-B963-6BBA649B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1F988-EE27-402D-873C-681435CB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F60BE-2D5B-4E47-BCAE-320C53A5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BB966-08D4-445F-94B5-A2585858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FAFE9-6396-4479-BD3E-3DB26944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B5DD-B1AF-42FD-B304-71DA7B9D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45BBF-8B82-4307-A293-608694A1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D4B5F-0CC6-45E8-98E7-468B6C75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65ED6-60C2-4C50-986E-BEEAFDF4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D8F2D-B531-4AE5-9213-D8E5D6A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4A3F7-A980-4A2A-848B-2CD8B597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99B-92D3-4A81-A9BD-CA2C9AB3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C65A7-0C77-4CB4-85BD-9FE23A4D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A018E-234B-476F-AB9B-48A86A8A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4F454-7790-44DC-BE43-35BC98A7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2B698-F97D-44BB-9199-F7CEDFF4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AE0A-08DF-4D67-8E44-9A2AF58E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7D4F-CD90-4BB0-AD49-2153EA1B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BD7E4-B655-4BB2-AEF0-91E6DD37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E07D6-9CB3-4A74-A264-B720207C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3E459-A111-4A93-85A8-D5F157A4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A4D4A-EAB6-4B0C-91CB-CF04F20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9A2-969A-46AF-AE59-32535F6D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B323D-0D24-444A-8E76-2ED5EB67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6C9C-7756-4035-B808-A2C68EC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A477-92A4-4B1A-8B5C-C7D5B51E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9DB0-D390-402E-B9E9-ABFA26BE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D986D-2BE8-4595-9E74-E88A1AD9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D4C3-16CA-4461-A974-65FD3CE8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AF94-C9FA-4952-BD16-72905BC6438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9E50-463A-49ED-8E6E-842D696687A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DEE2-0358-4B7F-AEEE-6A5F95C1C4C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9897-E6A1-4608-B2A6-82108510D7D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3C80-BBB8-4802-A198-D67399CB9E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6F5A-CA17-422C-93A5-AEFF2BD5280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5AC0-BC1D-4D67-828A-8B84967F196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347760" y="285840"/>
            <a:ext cx="8119800" cy="42735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stellar"/>
              </a:rPr>
              <a:t>By :</a:t>
            </a:r>
            <a:r>
              <a:rPr b="1" lang="en-US" sz="2000" spc="-1" strike="noStrike">
                <a:solidFill>
                  <a:srgbClr val="ffffff"/>
                </a:solidFill>
                <a:latin typeface="Castellar"/>
              </a:rPr>
              <a:t>Windell.O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stellar"/>
              </a:rPr>
              <a:t>Illustrations by :The comput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Picture 3" descr="home_collage.jpg"/>
          <p:cNvPicPr/>
          <p:nvPr/>
        </p:nvPicPr>
        <p:blipFill>
          <a:blip r:embed="rId2"/>
          <a:stretch/>
        </p:blipFill>
        <p:spPr>
          <a:xfrm>
            <a:off x="2127240" y="4187880"/>
            <a:ext cx="4664160" cy="1152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 spokes="8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7828200" cy="52783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eople also have the right to bear weapon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individually and collectively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right is also presented in the context of </a:t>
            </a:r>
            <a:r>
              <a:rPr b="0" i="1" lang="en-US" sz="3200" spc="-1" strike="noStrike">
                <a:solidFill>
                  <a:srgbClr val="ffffff"/>
                </a:solidFill>
                <a:latin typeface="Corbel"/>
              </a:rPr>
              <a:t>military servic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lso shown to the broader rights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orbel"/>
              </a:rPr>
              <a:t>self defens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The 2</a:t>
            </a:r>
            <a:r>
              <a:rPr b="0" lang="en-US" sz="3800" spc="-1" strike="noStrike" baseline="30000">
                <a:solidFill>
                  <a:srgbClr val="c1eeff"/>
                </a:solidFill>
                <a:latin typeface="Consolas"/>
              </a:rPr>
              <a:t>nd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 Amendment 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Picture 3" descr="soldado-2_4.gif"/>
          <p:cNvPicPr/>
          <p:nvPr/>
        </p:nvPicPr>
        <p:blipFill>
          <a:blip r:embed="rId1"/>
          <a:stretch/>
        </p:blipFill>
        <p:spPr>
          <a:xfrm>
            <a:off x="5181480" y="2895480"/>
            <a:ext cx="2076480" cy="192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advTm="4000">
    <p:zoom dir="out"/>
    <p:sndAc>
      <p:stSnd>
        <p:snd r:embed="rId2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705960" y="1350720"/>
            <a:ext cx="7218360" cy="45925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mendment was signed in        September 25,1789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ames Madison was the author of the 10 Amendment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Part 2       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The 2</a:t>
            </a:r>
            <a:r>
              <a:rPr b="0" lang="en-US" sz="3800" spc="-1" strike="noStrike" baseline="30000">
                <a:solidFill>
                  <a:srgbClr val="c1eeff"/>
                </a:solidFill>
                <a:latin typeface="Consolas"/>
              </a:rPr>
              <a:t>nd</a:t>
            </a: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 Amendment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6" name="Picture 3" descr="JamesMadisonJF62s.jpg"/>
          <p:cNvPicPr/>
          <p:nvPr/>
        </p:nvPicPr>
        <p:blipFill>
          <a:blip r:embed="rId1"/>
          <a:stretch/>
        </p:blipFill>
        <p:spPr>
          <a:xfrm>
            <a:off x="4267080" y="2895480"/>
            <a:ext cx="4165560" cy="396252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e citizens should not have the rights to bear arms because a citizen might get angry and shoot some one over a cup of tea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>
              <a:spcBef>
                <a:spcPts val="700"/>
              </a:spcBef>
              <a:buClr>
                <a:srgbClr val="d6ecff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nother reason is because if some one hears a gunshot they'll pull out there gun and start shooting for no apparent reason and no ones shooting at them!!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456840" y="512280"/>
            <a:ext cx="792468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1eeff"/>
                </a:solidFill>
                <a:latin typeface="Copperplate Gothic Bold"/>
              </a:rPr>
              <a:t>amendment 2 rights to bear arms should be abolished because 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Picture 4" descr="1860riderpistol.gif"/>
          <p:cNvPicPr/>
          <p:nvPr/>
        </p:nvPicPr>
        <p:blipFill>
          <a:blip r:embed="rId1"/>
          <a:stretch/>
        </p:blipFill>
        <p:spPr>
          <a:xfrm>
            <a:off x="6324480" y="4724280"/>
            <a:ext cx="2514600" cy="1938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edge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446960" cy="4897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68440" indent="-514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Now people go into stores and rob places for money and for other valuable items such as jewelry clothing and shoe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68440" indent="-51444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hildren come into school with guns in there shirts and creating gangs through out the schools of America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6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What’s happening now?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2" name="Picture 3" descr="le-mat-revolver.jpg"/>
          <p:cNvPicPr/>
          <p:nvPr/>
        </p:nvPicPr>
        <p:blipFill>
          <a:blip r:embed="rId1"/>
          <a:stretch/>
        </p:blipFill>
        <p:spPr>
          <a:xfrm>
            <a:off x="5372280" y="4648320"/>
            <a:ext cx="355572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newsflash/>
    <p:sndAc>
      <p:stSnd>
        <p:snd r:embed="rId2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05960" y="1351080"/>
            <a:ext cx="6913800" cy="48974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My personal opinion is that the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mendment  should be abolished because in some states now this is still aloud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Also people are getting killed because of this law and just because they want to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Gangs are also being formed and walking around with gun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What I think?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Another reason is the </a:t>
            </a:r>
            <a:r>
              <a:rPr b="0" lang="en-US" sz="3200" spc="-1" strike="noStrike">
                <a:solidFill>
                  <a:srgbClr val="ffffff"/>
                </a:solidFill>
                <a:latin typeface="comic"/>
              </a:rPr>
              <a:t>Virginia TECH </a:t>
            </a:r>
            <a:r>
              <a:rPr b="0" i="1" lang="en-US" sz="3200" spc="-1" strike="noStrike">
                <a:solidFill>
                  <a:srgbClr val="ffffff"/>
                </a:solidFill>
                <a:latin typeface="comic"/>
              </a:rPr>
              <a:t>TRADGEdY </a:t>
            </a: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that probably wouldn’t have happened if there were no gun shops unless you have a license and registration for hunting animals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(This tragedy happen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nsolas"/>
              </a:rPr>
              <a:t>All across the world!!!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eeff"/>
                </a:solidFill>
                <a:latin typeface="Consolas"/>
              </a:rPr>
              <a:t>Part 2          </a:t>
            </a: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What I think?    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4" descr="242050.jpg"/>
          <p:cNvPicPr/>
          <p:nvPr/>
        </p:nvPicPr>
        <p:blipFill>
          <a:blip r:embed="rId1"/>
          <a:stretch/>
        </p:blipFill>
        <p:spPr>
          <a:xfrm>
            <a:off x="7004160" y="3498840"/>
            <a:ext cx="1974600" cy="3114720"/>
          </a:xfrm>
          <a:prstGeom prst="rect">
            <a:avLst/>
          </a:prstGeom>
          <a:ln w="0">
            <a:noFill/>
          </a:ln>
        </p:spPr>
      </p:pic>
    </p:spTree>
  </p:cSld>
  <p:transition advTm="7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2:50:08Z</dcterms:created>
  <dc:creator>bros 4 life</dc:creator>
  <dc:description/>
  <dc:language>en-US</dc:language>
  <cp:lastModifiedBy>bros 4 life</cp:lastModifiedBy>
  <dcterms:modified xsi:type="dcterms:W3CDTF">2008-05-01T01:55:23Z</dcterms:modified>
  <cp:revision>46</cp:revision>
  <dc:subject/>
  <dc:title>Why the article of confederation needs to be replaced</dc:title>
</cp:coreProperties>
</file>